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DRUMROLL.WAV" ContentType="audio/x-wav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DC7F-D5B8-41D4-B79E-23ED2CE6CD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2CD-5723-4FB8-B720-ECC9C230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497-1328-47FD-A23D-6221D4C9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586-A23F-46AA-8967-B19D429B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DE6-27D3-44DD-A372-CACBCE82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37DB-972B-434E-92CE-CE8CCD36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3F79-4F56-42F1-BC50-1EA4E39D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57A3-6124-4FF4-A466-8F6CAD43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CEC4-7359-450D-92A7-955D6385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443B-AC09-4167-8CAE-B35F9BD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2E08-73B0-4A96-A1E0-3C92461E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238C-8EBD-4D14-A586-E6102FA2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C60-1202-4553-9526-BE7DD09D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2177-7ADF-4746-892D-4A511CD3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79EC-015E-4858-AC19-74A49D09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2852-C11E-487D-BE8C-01FFB8DC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708B-B71F-418E-8BB8-CBE6012D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E5D7-41E9-41E8-A57B-2591B0DC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E859-9C4E-45A1-9897-C9ECADA6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43F4-B092-4996-86E8-5A2471E0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5765A-5607-4235-B300-9BE001C4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8836-6D09-40A3-9030-069C8FC5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70A9-FD1B-4A1E-A1F6-81211564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0FD-AFB3-4A7C-A75A-30F47D33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01B9-95AB-47E0-ACC2-9CF8D074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DED1-1A0E-4CB7-A2B1-DC742167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7BF6-BE59-4FB9-9811-BB5FA7E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1798-79D7-4B27-A455-62F4D9DA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9A1D-F938-427E-83D6-8931ED7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9E8A-DFFC-43EC-832D-F22806C3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5754-9503-42B3-9EDF-11B8A364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84C9C-EE09-4479-922F-44F98D0F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D62C-FE2E-4F71-9AB6-77A97406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8D1E-A589-400B-96E0-56C20F17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51E-23FC-4229-A654-E309DBD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EC579-4DE8-43D2-B4B0-DC9A1A75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D2C1-B1DC-4A80-A5F1-89F53591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BD35-6926-44DD-BA6A-79D9BBAF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F4AC-46D7-4573-B372-6C51A3C2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4CFC6-94C7-4723-97AE-DD2CDA6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5C39B-32AA-4285-AAFA-DA10AC1F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21608-BCC8-462F-9F73-4EFA7E58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AD656-DB8C-4956-A697-11292979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AE940-174E-4250-8D9F-90893A93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555C-5E4C-4759-9353-25FFFE9C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353-D432-475A-B3F0-23121AFC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2F10F-2A74-4B92-AEA9-0840D2A4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C40CA-D6FE-453B-81FC-5765D08E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5A7C-C509-44F1-BF1D-5559DCA5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074CD-ACF7-45AD-8D3A-10888509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D310F-9E09-4A26-B5FE-82EC0BED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DEDDE-57EB-451E-8408-F82F73B9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34CE6-238E-4E64-ABC3-790A182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5554-9A3C-45D4-B37D-1E125CB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51024-65A8-4519-AE74-29509958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E1FB-2ACB-44F4-BD80-F052EA95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296-77D8-48AF-B9BA-93D2185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0DB39-1EA9-4452-BD39-FA0B4A88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7DB49-CC8D-4990-BD2B-17CBEA79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17E6-D90B-4211-9DFA-03F3DB2F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37097-264D-4B99-A6A7-4AB0B081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F4E1B-EC46-4959-AB42-A982E6B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F0AF-55ED-4404-A194-7405D54B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A3793-680B-4314-A852-F5777D82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FD837-AB2A-4A4D-B476-6DFDC88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E651-A2B2-484A-8067-261E12B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E04B7-3100-4C00-BBFF-FD8DF58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F80-006D-40EB-9900-69636D6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46C80-C071-4870-8C0D-FF33BB08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6AA7E-E1DA-407A-9DA0-D4E49F8E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B026A-7EDD-460D-A970-BF480B62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82F00-D5CE-4E17-856F-32F7F0E4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3C28E-0364-4F5C-928F-74D3CE25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F4EA8-0C0D-4E64-85C7-66BB3569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8E5F-028E-4F34-898F-372B4584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14581-990A-4F38-89B7-12C12E6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61A1C-CC19-4A61-B42D-294974E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F8EE1-1FCB-4975-B210-1B7B469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7E6-C9CD-4583-81BD-84615FE8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396B0-9F6E-4311-955F-327D6E8E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018E9-B51D-4369-8202-AA697C58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C5E83-197F-44B4-9ADA-C756AA05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89292-2167-4022-92E1-BB16BEF7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ACBC0-610E-43CE-84DE-C0D0915B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4BA-CC72-4E20-AD8E-233A90A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5B71-A3FF-4AB4-967B-EED7A17225B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3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BF7A-5361-4FDC-9AB7-2761F65AAD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2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2893-C026-4531-ACC1-35A569D0F2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B910-9C5D-4D19-8EFE-A8F6186C8D3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B727-4DEE-42AA-8BF6-C73241D4E57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25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D93C-DBF7-4C54-BBF4-D427AB9870B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2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2371-50F0-47FC-9F40-3E74290B3EB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H:\Dinosaurs\tyrannos.jpg"/>
          <p:cNvPicPr/>
          <p:nvPr/>
        </p:nvPicPr>
        <p:blipFill>
          <a:blip r:embed="rId1"/>
          <a:stretch/>
        </p:blipFill>
        <p:spPr>
          <a:xfrm>
            <a:off x="2743200" y="1066680"/>
            <a:ext cx="6400800" cy="387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0" y="50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239280" y="7632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:\Dinosaurs\stegosaurus.jpg"/>
          <p:cNvPicPr/>
          <p:nvPr/>
        </p:nvPicPr>
        <p:blipFill>
          <a:blip r:embed="rId1"/>
          <a:stretch/>
        </p:blipFill>
        <p:spPr>
          <a:xfrm>
            <a:off x="2666880" y="9144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28600" y="4648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28600" y="4775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3735000" y="152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orte"/>
              </a:rPr>
              <a:t>Stego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:\Dinosaurs\pterobig.gif"/>
          <p:cNvPicPr/>
          <p:nvPr/>
        </p:nvPicPr>
        <p:blipFill>
          <a:blip r:embed="rId1"/>
          <a:stretch/>
        </p:blipFill>
        <p:spPr>
          <a:xfrm>
            <a:off x="2590920" y="914400"/>
            <a:ext cx="6553080" cy="3962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457200" y="51055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4251240" y="76320"/>
            <a:ext cx="32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terano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:\Dinosaurs\Velocira.gif"/>
          <p:cNvPicPr/>
          <p:nvPr/>
        </p:nvPicPr>
        <p:blipFill>
          <a:blip r:embed="rId1"/>
          <a:srcRect l="0" t="1536" r="4753" b="13408"/>
          <a:stretch/>
        </p:blipFill>
        <p:spPr>
          <a:xfrm>
            <a:off x="2666880" y="990720"/>
            <a:ext cx="6477120" cy="3448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609480" y="4619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746880" y="152280"/>
            <a:ext cx="33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Velocira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:\Dinosaurs\plesiosaurus_normal.jpg"/>
          <p:cNvPicPr/>
          <p:nvPr/>
        </p:nvPicPr>
        <p:blipFill>
          <a:blip r:embed="rId1"/>
          <a:srcRect l="5311" t="0" r="7965" b="0"/>
          <a:stretch/>
        </p:blipFill>
        <p:spPr>
          <a:xfrm>
            <a:off x="1676520" y="914400"/>
            <a:ext cx="7467480" cy="4027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914400" y="50292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3564360" y="7632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lesiosau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8:56:08Z</dcterms:created>
  <dc:creator>Spring Cove School District</dc:creator>
  <dc:description/>
  <dc:language>en-US</dc:language>
  <cp:lastModifiedBy>LEGION</cp:lastModifiedBy>
  <dcterms:modified xsi:type="dcterms:W3CDTF">2018-03-12T09:05:55Z</dcterms:modified>
  <cp:revision>24</cp:revision>
  <dc:subject/>
  <dc:title>PowerPoint Presentation</dc:title>
</cp:coreProperties>
</file>